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098B-B8E7-483B-8849-81DF1BDA2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D3F3-5A59-40A5-BCAD-336DF2CE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5051-27BF-471E-BD2C-A541BE573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066D-CF52-4E67-85D3-86E38A04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AF69-4DF5-4D8A-907A-147B58F43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B838-222A-4D1F-B10E-44BBBDF2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5C56-7711-4A55-BC73-39E53B3C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99E6-5B23-4682-B252-090E48D2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92A4-19E3-4FB5-9050-D990D109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180F-5145-4F69-A4B6-410EB296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C977-1A6C-42B4-98E3-90395A8E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57BF-3EAD-4731-8BAA-CC2ABDB6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EE5D-2B79-4AE2-B005-157830A8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69D1-AB9A-49AA-AB5E-4512D419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89FF-AF11-4F57-9466-367C3B6F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3E34-D706-43F4-A25D-4A99A949E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38A9-0E00-4882-9683-9076BA3CA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C490-1687-4D00-8453-D8E52B13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9515-01EE-4A45-AE47-7FE09BB2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724E-346D-4745-9AFA-74A441AA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239F-1C29-4824-B491-D38947BE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6499-8384-4821-A0EC-424B7B33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7DF9-1AD1-49A6-ADD7-A3229590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0A3D-11E7-4484-A594-09362D6D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E389-90F9-460A-B224-EA9EA826E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D5D9-A0A6-4A73-A6E3-9CD6746C1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dobe Garamond Pro Bold"/>
              </a:rPr>
              <a:t>Nabeel Khalid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87000" y="2590560"/>
            <a:ext cx="7086600" cy="198108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Country         :: Pak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Me in class    :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8th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00"/>
                </a:solidFill>
                <a:latin typeface="Arial"/>
              </a:rPr>
              <a:t>My interest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:: football, music, eng. fil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My favourite subject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: m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5334120"/>
            <a:ext cx="6858000" cy="1015920"/>
          </a:xfrm>
          <a:prstGeom prst="rect">
            <a:avLst/>
          </a:prstGeom>
          <a:solidFill>
            <a:srgbClr val="003366"/>
          </a:solid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Proud to be the part of Asia Europe Class Net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And thank you for giving me a chance in HisBulP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akistan" descr=""/>
          <p:cNvPicPr/>
          <p:nvPr/>
        </p:nvPicPr>
        <p:blipFill>
          <a:blip r:embed="rId1"/>
          <a:stretch/>
        </p:blipFill>
        <p:spPr>
          <a:xfrm>
            <a:off x="7086600" y="533520"/>
            <a:ext cx="145080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0:55:33Z</dcterms:created>
  <dc:creator>pasha</dc:creator>
  <dc:description/>
  <dc:language>en-US</dc:language>
  <cp:lastModifiedBy>Sumi</cp:lastModifiedBy>
  <dcterms:modified xsi:type="dcterms:W3CDTF">2010-01-26T23:57:54Z</dcterms:modified>
  <cp:revision>26</cp:revision>
  <dc:subject/>
  <dc:title>MR. HAROON </dc:title>
</cp:coreProperties>
</file>